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A92-25DE-4501-B47D-B82DFF73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2D9-0A79-4A25-8D58-B8F0FFCB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120-3B24-4843-9370-AFFFAF00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18B-834D-4A26-8126-42B62E15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6D6-B4BB-4957-9DF6-89A4586C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92A-500D-4CD4-A6F4-302F957B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3E0-27D9-42F2-8E92-459AF985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221-7620-458A-9670-7B4AF161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C10-D377-4AB1-B8C3-D457CEE6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F6B-14B1-4D36-B190-CF1C0A1E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BC4-18A0-4A71-810F-7A80589C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BCF-C36C-4515-AA80-D95E097A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6667-DC5F-494F-8B56-A83DC8A29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295280"/>
            <a:ext cx="8382240" cy="4572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46-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K. 3:7-12; MATT. 12:15-21; LK. 6:12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R, WE WOULD SEE JESUS”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Great Galilean Ministry -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2C5-D039-4DEB-AB94-75029FA289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EAT GALILEAN MINISTRY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7-12; Matt. 12:15-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ad healed on the Sabbath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 plotted to kill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thdrew to the Sea of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, great multitudes follow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ealed them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BE4-5F13-4D39-BA3E-9EC8A038D7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EAT GALILEAN MINIST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7-12; Matt. 12:15-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aught the people from a small b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ealed the affli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pressed to touc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unclean spirits acknowledged Him as “the Son of G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arned them not to make Him 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2DB-B7B5-4CF8-9BDA-377883411F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OTHER PROHECY FULFILLED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2:18-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fulfilled the prophecy of Isaiah 42: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hold! My Servant whom I have chos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y Beloved in whom My soul is well pleas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will put My Spirit upon Hi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He will declare justice to the Gent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 will not quarrel nor cry ou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r will anyone hear His voice in the stre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bruised reed He will not bre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smoking flax He will not quen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ill He sends forth justice to victor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in His name Gentiles will t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027-7BE0-4F33-8B57-FD20CD07A3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OSTLES CHOSEN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13-19; Luke 6:12-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 night of prayer, Jesus selects twelv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apostle means “one s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eyewitnesses of the lif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ould gradually share in Jesus’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soon go out and pr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499-10AE-4931-B3FD-28C10EABF0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OSTLES CHOSEN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13-19; Luke 6:12-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he baptism of the Holy Spirit on Pente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into all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to heal all sicknesses and to cast out unclean spi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ere to lay the foundation of Jesus Christ upon which the church was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71C-A0B7-4F57-9562-26AB87E887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OSTLES CHOSEN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13-19; Luke 6:12-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: Peter, Andrew, James, John, Philip, Bartholomew, Thomas, Matthew, Jam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on of Alphaeus)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ddaeus, Simon, Judas Iscari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apostles died, no replacement was made (except in the case of Judas Iscario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specially chosen to work primarily with the Gentil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488-777F-4844-B864-59C8531AE6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4:18:45Z</dcterms:created>
  <dc:creator>billy lauderdale</dc:creator>
  <dc:description/>
  <dc:language>en-US</dc:language>
  <cp:lastModifiedBy>Frank D Vines</cp:lastModifiedBy>
  <dcterms:modified xsi:type="dcterms:W3CDTF">2006-08-14T17:42:35Z</dcterms:modified>
  <cp:revision>23</cp:revision>
  <dc:subject/>
  <dc:title>SIR, WE WOULD SEE JESUS  -GREAT GALILEAN MINISTRY- </dc:title>
</cp:coreProperties>
</file>